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0FE38-E3AB-4A5B-A9C8-A2D4F7E4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B077E-C35F-4E3B-9DA0-FA988EDA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DA432-909D-4068-90AB-82AC6EBD1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880EC-E703-494E-9F01-EA743DFC7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82CFC-8B8E-4718-AA2C-3B56A9E44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3119-C9A5-462E-BF5C-8FE35E97A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B659-381E-4541-B8A4-64DD766B9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A281-6E33-47E8-943E-CE118BCF3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42FAA-59C3-4FC0-A630-E2A34B32A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25EE-6DF7-4E4B-879B-8942C26CC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2084-4F41-42FC-BDC2-9BA7745A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56F3-7A66-4F5F-A17B-453517863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2473-4CC6-4F35-A0A3-F65E85698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19520" y="1219320"/>
            <a:ext cx="3457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siunea iunie - iulie</a:t>
            </a:r>
            <a:endParaRPr b="0" lang="en-US" sz="24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7a3</cp:lastModifiedBy>
  <dcterms:modified xsi:type="dcterms:W3CDTF">2012-06-10T05:14: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